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8C3F6-BE87-4AC0-8DC1-8A3CEE0BF5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220B8-65D6-4E4D-81DA-E4DD73B98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AD542-3B6B-4229-9B86-564CBF68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46D0D-ACEE-4273-A267-33C6EC87DE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F8482-3179-4D5C-930B-3993BBD88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66B8F-5C14-4993-A565-09956687F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AA665-F5B5-4101-BA77-DB0524B7F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32A9E-9EEF-4114-AC50-0FEC006C7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016A0-7617-4D33-8784-DD8CA6534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667EB-24E3-490D-A0E6-982FB0FC3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BFB2B-43F6-4571-87CD-C2ADB3C9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CDAD0-AAB0-42BD-ADE2-EF763C6E1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8FB15-4F43-4A33-950A-4B81FBCD599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907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六章 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食管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6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食管癌，给予营养支持，放射治疗。身体耐受程度良好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后行食管癌切除后胃代食管术。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日，患者出现了胸闷、气急、心悸症状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发症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练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呼吸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管插管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深呼吸，有效咳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痰多、咳痰无力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减压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需持续行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胃肠减压管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胃肠减压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减压管一般应保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闭式引流管的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第十三章胸部损伤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吻合口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糜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疾病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情绪管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肺部并发症的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定期复查，坚持后续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明，相关因素有生活习惯、饮食因素、遗传因素、疾病因素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主要特征性症状为进食哽咽感、异物感、胸骨后烧灼样、针刺样或牵拉摩擦样疼痛。中晚期主要症状为进行性吞咽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辅以化疗、放疗等综合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应关注患者的心理反应，做好呼吸道与肠道准备；术后注意观察伤口及引流情况，及时发现出血、吻合口瘘、乳糜胸等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食管癌发病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食管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出食管癌术后常见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不同类型食管癌患者的临床表现和进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食管癌术后容易发生吻合口瘘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食管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sophageal carcinom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消化系统常见的恶性肿瘤之一。据估计全世界每年大约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万人死于食管癌，我国约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万人。男性多见，好发年龄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6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进行性吞咽困难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未见任何阳性体征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BC 4.0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,Hb 85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镜检查：食管中段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长管腔狭窄，黏膜中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理报告：鳞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Ⅱ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期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食物停滞感或异物感、哽噎感、胸骨后灼烧样、针刺样或牵拉摩擦样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晚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吞咽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咳嗽及呼吸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钡餐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食管拉网脱落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食管纤维光学内窥镜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核素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食管癌的首选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内镜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免疫治疗及中药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与肿瘤消耗、饮食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 与吞咽困难、水分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理呼吸道无效 与呼吸道分泌物较多、手术后疼痛不敢咳嗽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肺不张、肺炎、出血、吻合口瘘、乳糜胸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12:11:12Z</dcterms:modified>
  <cp:revision>88</cp:revision>
  <dc:subject/>
  <dc:title>内科护理学</dc:title>
</cp:coreProperties>
</file>